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A8BD-7536-494C-BE2A-7932E5C2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D011-9873-4207-8E3D-A6C74AEF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4AF0-358E-4161-A922-48CAB99F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B22F-C7A3-4EFC-95A5-242A632E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016E-F58B-4E06-8277-DE20535D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A2A1-8F3C-4973-BA69-F7500131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8F96-22A0-4B7D-A4FD-87ECD966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D6B0-36FE-4D5E-AEEA-4A7DEE3B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66C9-0E02-4EE2-B61C-7EFCA7A1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72D7-9F64-4CC8-9CF1-02A5CA6A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9AA1-A3D4-497C-8AE6-3F597C70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A8E6-B693-4641-B0C1-7DBC0271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7FBB-91CF-4853-87C7-506A7BE0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8F6D-F734-422D-BA4C-FEC5355A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6A74-77BD-4393-8196-1A19DA3A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8798-2517-414D-915C-7B5E572D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20BE-7747-4549-AB52-517B5E31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A240-7F3D-4C84-8BB4-F65A3F37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8B3A-DB6D-4BC0-B8EB-A3327BB2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1B27-D59F-45AE-8384-DC810976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D41C-AEF2-42D1-A417-FA5E3FCC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8513-BBD0-4DA1-AF09-B35C92BE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9F53-0323-44D8-87D9-E1B3AFBD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3099-0161-4F9E-A194-3AC1019F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2D4D-C573-4B74-B96E-71F5CFA13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26BE-42A7-41AE-8031-B17C688EBE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-76320" y="380880"/>
            <a:ext cx="518184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fdef6"/>
                </a:solidFill>
                <a:latin typeface="Impact"/>
              </a:rPr>
              <a:t>Chemical Equations</a:t>
            </a:r>
            <a:endParaRPr b="0" lang="en-US" sz="9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Picture 8" descr="dert"/>
          <p:cNvPicPr/>
          <p:nvPr/>
        </p:nvPicPr>
        <p:blipFill>
          <a:blip r:embed="rId1"/>
          <a:stretch/>
        </p:blipFill>
        <p:spPr>
          <a:xfrm>
            <a:off x="5029200" y="838080"/>
            <a:ext cx="4027320" cy="5410440"/>
          </a:xfrm>
          <a:prstGeom prst="rect">
            <a:avLst/>
          </a:prstGeom>
          <a:ln w="0">
            <a:noFill/>
          </a:ln>
        </p:spPr>
      </p:pic>
      <p:sp>
        <p:nvSpPr>
          <p:cNvPr id="51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DA1E-E386-4ACB-A4E8-6F7B02785D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Balancing Equations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You need to add coefficients to balance the equation…to make sure that there are the same number of atoms of each kind on both s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4" descr="coeff"/>
          <p:cNvPicPr/>
          <p:nvPr/>
        </p:nvPicPr>
        <p:blipFill>
          <a:blip r:embed="rId2"/>
          <a:stretch/>
        </p:blipFill>
        <p:spPr>
          <a:xfrm>
            <a:off x="2133720" y="2838600"/>
            <a:ext cx="5486400" cy="4019400"/>
          </a:xfrm>
          <a:prstGeom prst="rect">
            <a:avLst/>
          </a:prstGeom>
          <a:ln w="0">
            <a:noFill/>
          </a:ln>
        </p:spPr>
      </p:pic>
      <p:sp>
        <p:nvSpPr>
          <p:cNvPr id="544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8C5F-5262-4798-899B-8E1BE29797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c5~1"/>
          <p:cNvPicPr/>
          <p:nvPr/>
        </p:nvPicPr>
        <p:blipFill>
          <a:blip r:embed="rId1"/>
          <a:stretch/>
        </p:blipFill>
        <p:spPr>
          <a:xfrm>
            <a:off x="1295280" y="380880"/>
            <a:ext cx="7010640" cy="6270840"/>
          </a:xfrm>
          <a:prstGeom prst="rect">
            <a:avLst/>
          </a:prstGeom>
          <a:ln w="0">
            <a:noFill/>
          </a:ln>
        </p:spPr>
      </p:pic>
      <p:sp>
        <p:nvSpPr>
          <p:cNvPr id="54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1A46-238E-49B8-9A00-948FF5665B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ust indicate the state of the reactants and product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solids add (s) after the element symbol eg. Fe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liquids add (l), eg.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(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gases, add (g), eg.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substance dissolved in water (a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. NaCl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94BF-060C-4DCA-B5F7-723E62F784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cap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0" name="Picture 4" descr="img002"/>
          <p:cNvPicPr/>
          <p:nvPr/>
        </p:nvPicPr>
        <p:blipFill>
          <a:blip r:embed="rId1"/>
          <a:stretch/>
        </p:blipFill>
        <p:spPr>
          <a:xfrm>
            <a:off x="838080" y="1295280"/>
            <a:ext cx="7315200" cy="4972320"/>
          </a:xfrm>
          <a:prstGeom prst="rect">
            <a:avLst/>
          </a:prstGeom>
          <a:ln w="0">
            <a:noFill/>
          </a:ln>
        </p:spPr>
      </p:pic>
      <p:sp>
        <p:nvSpPr>
          <p:cNvPr id="55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CBA8-DA0F-471C-B8C9-422F065ECD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l  (Skelton equ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HCl (Balanc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 + HC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Skelt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 + 2HC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Balanc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more examples in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4"/>
          <p:cNvSpPr/>
          <p:nvPr/>
        </p:nvSpPr>
        <p:spPr>
          <a:xfrm>
            <a:off x="2590920" y="1905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5"/>
          <p:cNvSpPr/>
          <p:nvPr/>
        </p:nvSpPr>
        <p:spPr>
          <a:xfrm>
            <a:off x="3276720" y="36576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42BF-5116-4BF9-8203-2DE701AFB1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2971800" y="4191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4"/>
          <p:cNvSpPr/>
          <p:nvPr/>
        </p:nvSpPr>
        <p:spPr>
          <a:xfrm>
            <a:off x="1828800" y="25146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hemical Reac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cess in which new substances with new properties are formed is called 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hemical rea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hemical reactions either release or absorb ener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Exothermic vs Endothermic Reactions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xothermic rea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are reactions that release energy.  Ex: explosions and combustion of fu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ndothermic rea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are reactions that absorb energy.  Ex: cooking f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 Which type of reaction is more likely to be dangerous? 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water"/>
          <p:cNvPicPr/>
          <p:nvPr/>
        </p:nvPicPr>
        <p:blipFill>
          <a:blip r:embed="rId1"/>
          <a:stretch/>
        </p:blipFill>
        <p:spPr>
          <a:xfrm>
            <a:off x="3863880" y="2286000"/>
            <a:ext cx="5280120" cy="35812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dfdef6"/>
                </a:solidFill>
                <a:latin typeface="Arial"/>
              </a:rPr>
              <a:t>2H</a:t>
            </a:r>
            <a:r>
              <a:rPr b="0" lang="fr-CA" sz="4400" spc="-1" strike="noStrike" baseline="-25000">
                <a:solidFill>
                  <a:srgbClr val="dfdef6"/>
                </a:solidFill>
                <a:latin typeface="Arial"/>
              </a:rPr>
              <a:t>2</a:t>
            </a:r>
            <a:r>
              <a:rPr b="0" lang="fr-CA" sz="4400" spc="-1" strike="noStrike">
                <a:solidFill>
                  <a:srgbClr val="dfdef6"/>
                </a:solidFill>
                <a:latin typeface="Arial"/>
              </a:rPr>
              <a:t> + O</a:t>
            </a:r>
            <a:r>
              <a:rPr b="0" lang="fr-CA" sz="4400" spc="-1" strike="noStrike" baseline="-25000">
                <a:solidFill>
                  <a:srgbClr val="dfdef6"/>
                </a:solidFill>
                <a:latin typeface="Arial"/>
              </a:rPr>
              <a:t>2</a:t>
            </a:r>
            <a:r>
              <a:rPr b="0" lang="fr-CA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fr-CA" sz="4400" spc="-1" strike="noStrike">
                <a:solidFill>
                  <a:srgbClr val="dfdef6"/>
                </a:solidFill>
                <a:latin typeface="Arial"/>
                <a:ea typeface="Arial"/>
              </a:rPr>
              <a:t>→ </a:t>
            </a:r>
            <a:r>
              <a:rPr b="0" lang="fr-CA" sz="4400" spc="-1" strike="noStrike">
                <a:solidFill>
                  <a:srgbClr val="dfdef6"/>
                </a:solidFill>
                <a:latin typeface="Arial"/>
              </a:rPr>
              <a:t>2H</a:t>
            </a:r>
            <a:r>
              <a:rPr b="0" lang="fr-CA" sz="4400" spc="-1" strike="noStrike" baseline="-25000">
                <a:solidFill>
                  <a:srgbClr val="dfdef6"/>
                </a:solidFill>
                <a:latin typeface="Arial"/>
              </a:rPr>
              <a:t>2</a:t>
            </a:r>
            <a:r>
              <a:rPr b="0" lang="fr-CA" sz="4400" spc="-1" strike="noStrike">
                <a:solidFill>
                  <a:srgbClr val="dfdef6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-76680" y="1600200"/>
            <a:ext cx="403884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Chemical Equation: A method of presenting the reactants and products of a reaction by showing their formu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So, in the reaction above, we can see that hyrogen reacts with oxygen to form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1C1C-D402-49CB-8116-C31FFF0A92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ooking at chemical reactions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Picture 4" descr="reaction"/>
          <p:cNvPicPr/>
          <p:nvPr/>
        </p:nvPicPr>
        <p:blipFill>
          <a:blip r:embed="rId1"/>
          <a:stretch/>
        </p:blipFill>
        <p:spPr>
          <a:xfrm>
            <a:off x="0" y="2629080"/>
            <a:ext cx="91440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actants and Produc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act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the substances that undergo a chemical reaction. ( left s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oduc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the new substances formed from a chemical reaction. ( right s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riting Chemical Equ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s can be expressed in many different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mplest form of a chemical equation is calle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minative (w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</a:rPr>
              <a:t>ord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ydrogen + oxyge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+ sign means “ reacts wi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rr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“ to produ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4"/>
          <p:cNvSpPr/>
          <p:nvPr/>
        </p:nvSpPr>
        <p:spPr>
          <a:xfrm>
            <a:off x="4419720" y="388620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2819520" y="5638680"/>
            <a:ext cx="1295280" cy="152640"/>
          </a:xfrm>
          <a:prstGeom prst="rightArrow">
            <a:avLst>
              <a:gd name="adj1" fmla="val 50000"/>
              <a:gd name="adj2" fmla="val 21214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Slide Number Placeholder 7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FA93-AC55-4534-B331-9A35991946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minative formula however tells you nothing about the composition (formulas) of the reactants and product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, better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kelton equ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HON Halogen (all these are found as diatomic molecules as ele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you notice anything wrong with the equation abo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4"/>
          <p:cNvSpPr/>
          <p:nvPr/>
        </p:nvSpPr>
        <p:spPr>
          <a:xfrm>
            <a:off x="2819520" y="26668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E9C5-5CCB-45FB-980E-36E998A19B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To find out what’s wrong…we need to consider the </a:t>
            </a:r>
            <a:r>
              <a:rPr b="0" lang="en-US" sz="3200" spc="-1" strike="noStrike" u="sng">
                <a:solidFill>
                  <a:srgbClr val="dfdef6"/>
                </a:solidFill>
                <a:uFillTx/>
                <a:latin typeface="Arial"/>
              </a:rPr>
              <a:t>Law of Conservation of Mas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w of Conservation of Mass states that the mass of the reactants in a chemical equations must equal the mass of the produc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, lets consider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hydrogen and oxygen atoms i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 reacta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 produc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4"/>
          <p:cNvSpPr/>
          <p:nvPr/>
        </p:nvSpPr>
        <p:spPr>
          <a:xfrm>
            <a:off x="3962520" y="41148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A8BA-C15B-4D42-8023-59EB4A1883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7:19:23Z</dcterms:created>
  <dc:creator>Systems Administrator</dc:creator>
  <dc:description/>
  <dc:language>en-US</dc:language>
  <cp:lastModifiedBy>Pacific West Staff 1</cp:lastModifiedBy>
  <dcterms:modified xsi:type="dcterms:W3CDTF">2012-01-16T18:26:44Z</dcterms:modified>
  <cp:revision>16</cp:revision>
  <dc:subject/>
  <dc:title>Les Équations Chimiques</dc:title>
</cp:coreProperties>
</file>